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camera.wav" ContentType="audio/x-wav"/>
  <Override PartName="/ppt/media/image36.jpeg" ContentType="image/jpeg"/>
  <Override PartName="/ppt/media/image11.jpeg" ContentType="image/jpeg"/>
  <Override PartName="/ppt/media/image9.jpeg" ContentType="image/jpeg"/>
  <Override PartName="/ppt/media/image38.jpeg" ContentType="image/jpeg"/>
  <Override PartName="/ppt/media/image45.png" ContentType="image/png"/>
  <Override PartName="/ppt/media/image4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5.png" ContentType="image/png"/>
  <Override PartName="/ppt/media/image43.jpeg" ContentType="image/jpeg"/>
  <Override PartName="/ppt/media/image16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447E-16D0-494B-8EDA-1A60B9DB45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AC4-F02E-4374-9345-537C513F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95E-C413-4C86-A2B4-BAA8FC32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B9C-7F37-43D3-85BC-D60F7837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178-CE7B-4A2B-8663-649A0266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DE7-D263-4570-B9C0-F0B37DF2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387-6F3E-49EC-A630-B8DA9A0D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58F-E482-4A1C-A9E7-3BC928E6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E28-A0A2-4824-B376-A0A9DAAF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E2E-D0B5-4A5E-A36C-D20CB736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278-A182-4886-A17D-207D57FA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65C-B6EC-45B5-BDBF-9D03E434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90E-EEE8-46EC-B7B7-12A6322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8E61-72D0-4534-AFFD-12C4102EC8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png"/><Relationship Id="rId10" Type="http://schemas.openxmlformats.org/officeDocument/2006/relationships/audio" Target="../media/camera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28912" t="0" r="3875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2624" t="4573" r="4324" b="59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12000"/>
          </a:blip>
          <a:srcRect l="33073" t="11599" r="29586" b="48183"/>
          <a:stretch/>
        </p:blipFill>
        <p:spPr>
          <a:xfrm>
            <a:off x="8012160" y="-27000"/>
            <a:ext cx="9525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211640" y="4869000"/>
            <a:ext cx="453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制作者：卓文宏  龙港三中</a:t>
            </a:r>
            <a:endParaRPr b="1" lang="en-US" sz="6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411280" y="1125360"/>
            <a:ext cx="3745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奥 运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29440" y="2276640"/>
            <a:ext cx="2879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LYMPICS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140360" y="5803920"/>
            <a:ext cx="46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点击进入我的网页：卓文宏在线</a:t>
            </a:r>
            <a:endParaRPr b="1" lang="en-US" sz="66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859280" y="60055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奥林匹克竞技场入口旧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0" y="80496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奥林匹克竞技运动会起源于公元前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世纪的古腊，是希腊各城邦共同参与的社会活动，也是希腊人生活中十分重要的庆典日。运动会期间，各城邦之间不允许有任何战争行为发生，所有通往奥林匹克的道路任人自由往来，举办现代奥运会，目的在于促进人类的精神发展，锻炼人的品，培养人的道德，发展古希腊人的理想——美和健康，造就全面发展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64200" y="426960"/>
            <a:ext cx="3944880" cy="5378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71640" y="83664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0" y="11592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604"/>
                </a:solidFill>
                <a:latin typeface="Times New Roman"/>
              </a:rPr>
              <a:t>奥运会的起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51280" y="549360"/>
            <a:ext cx="52927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现代奥运会奥林匹克火炬的点燃和传递仪式始于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928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第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届奥运会。按照奥运会的传统，奥运火种取自希腊的奥林匹亚，由扮作女神的少女用聚光镜集太阳光点燃火炬，然后接力传向奥运会主会场。在奥运会开幕式上，象征光明、勇敢、团结、友谊的主火炬塔由东道国著名运动员点燃，一直燃烧到奥运会闭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6360" y="476280"/>
            <a:ext cx="4065840" cy="532908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3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1640" y="1773360"/>
            <a:ext cx="26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89000"/>
            <a:ext cx="59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1604"/>
                </a:solidFill>
                <a:latin typeface="Times New Roman"/>
                <a:ea typeface="华文行楷"/>
              </a:rPr>
              <a:t>奥林匹克运动与中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3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93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，第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届奥运会在美国洛杉矶举行。刘长春代表中国参加比赛，成为我国第一位参加奥运会的选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96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罗马奥运会上，中国台北选手杨传广夺取了十项全能比赛的银牌，成为第一位获得奥运会奖牌的中国运动员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968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墨西哥城奥运会上，台北女选手纪政获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米栏铜牌，是第一位获得奥运会奖牌的中国女子运动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979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日，国际奥委会恢复了中国奥委会的合法权利，并决定台湾以中国台北奥委会的名义参加。中国回到了奥林匹克大家庭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8400"/>
            <a:ext cx="9144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98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届洛杉矶奥运会，许海峰摘取了第一枚金牌，实现了我国奥运史上“零的突破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99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5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届巴塞罗那奥运会，中国首次名列奥运会金牌榜第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00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7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届悉尼奥运会上，中国首次进入奥运会金牌榜前三名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00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8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届雅典奥运会上，中国排名奥运会金牌榜第二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00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北京申办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008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年奥运会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620640"/>
            <a:ext cx="24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雅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60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317520"/>
            <a:ext cx="2539800" cy="2260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03640" y="26028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227640" y="3500280"/>
            <a:ext cx="2540160" cy="2197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540160" cy="2273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3348000" y="3500280"/>
            <a:ext cx="2540160" cy="219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2565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刘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2000" y="249408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许海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24940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杨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56800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王军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5680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邓亚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539640" y="3429000"/>
            <a:ext cx="2374920" cy="2349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7340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李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8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628640"/>
            <a:ext cx="914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c160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604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你最喜欢的体育运动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c160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604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你最崇拜哪位体育明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fc160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604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2008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北京奥运会，你最想看哪个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项目的比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0"/>
            <a:ext cx="2916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组讨论：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543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五环的颜色从左至右为天蓝、黄、黑、绿、红，五色的环圈，代表欧、亚、非、美和大洋州连结在一起，共同为接受运动竞赛良好的结果而努力，它代表着奥林匹克友谊的精神及全世界运动员之间的平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90560" y="390600"/>
            <a:ext cx="6481800" cy="3109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0" y="0"/>
            <a:ext cx="257184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知道吗？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2720" y="192240"/>
            <a:ext cx="14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93800" y="115920"/>
            <a:ext cx="160848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7520" y="192240"/>
            <a:ext cx="1467000" cy="2133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937200" y="192240"/>
            <a:ext cx="157824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622440" y="3429000"/>
            <a:ext cx="1481040" cy="1943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2603520" y="3505320"/>
            <a:ext cx="143820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4889520" y="3505320"/>
            <a:ext cx="1370160" cy="190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7167600" y="3467160"/>
            <a:ext cx="1336680" cy="1905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6000" y="2275560"/>
            <a:ext cx="21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伦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41440" y="2286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8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东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227700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3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洛杉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5440" y="2286720"/>
            <a:ext cx="19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巴塞罗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371200"/>
            <a:ext cx="21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6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亚特兰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128920"/>
            <a:ext cx="169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7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届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悉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5372640"/>
            <a:ext cx="16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8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雅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5328360"/>
            <a:ext cx="166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9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>
            <a:lum bright="12000"/>
          </a:blip>
          <a:srcRect l="0" t="11599" r="1852" b="20001"/>
          <a:stretch/>
        </p:blipFill>
        <p:spPr>
          <a:xfrm>
            <a:off x="1116000" y="0"/>
            <a:ext cx="6948360" cy="5877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835280" y="5877000"/>
            <a:ext cx="59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中国印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·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舞动的北京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0"/>
            <a:ext cx="2700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的理解：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9144000" cy="6093000"/>
            <a:chOff x="0" y="0"/>
            <a:chExt cx="9144000" cy="60930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rcRect l="10626" t="42141" r="9844" b="20094"/>
            <a:stretch/>
          </p:blipFill>
          <p:spPr>
            <a:xfrm>
              <a:off x="0" y="0"/>
              <a:ext cx="9144000" cy="609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"/>
            <a:srcRect l="8263" t="26900" r="49219" b="67848"/>
            <a:stretch/>
          </p:blipFill>
          <p:spPr>
            <a:xfrm>
              <a:off x="755640" y="5373720"/>
              <a:ext cx="7848720" cy="7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 txBox="1"/>
          <p:nvPr/>
        </p:nvSpPr>
        <p:spPr>
          <a:xfrm>
            <a:off x="0" y="0"/>
            <a:ext cx="2700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最喜欢：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60195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987640" y="189000"/>
            <a:ext cx="914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奥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143240" y="1413000"/>
            <a:ext cx="933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运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00720" y="3200400"/>
            <a:ext cx="914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知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24360" y="4572000"/>
            <a:ext cx="933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识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87640" y="5229360"/>
            <a:ext cx="933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问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09800" y="5261040"/>
            <a:ext cx="933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中宋"/>
              </a:rPr>
              <a:t>答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447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上届奥运中国队获多少枚金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5520" y="3200400"/>
            <a:ext cx="16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32</a:t>
            </a:r>
            <a:r>
              <a:rPr b="0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37160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第一届奥林匹克运动会在哪个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市举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4680" y="3733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1604"/>
                </a:solidFill>
                <a:latin typeface="Times New Roman"/>
                <a:ea typeface="黑体"/>
              </a:rPr>
              <a:t>希腊雅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80760" y="1176480"/>
            <a:ext cx="560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五环的颜色从左到右的次序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000" y="2743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1604"/>
                </a:solidFill>
                <a:latin typeface="Times New Roman"/>
                <a:ea typeface="黑体"/>
              </a:rPr>
              <a:t>蓝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11080" y="3591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1604"/>
                </a:solidFill>
                <a:latin typeface="Times New Roman"/>
                <a:ea typeface="黑体"/>
              </a:rPr>
              <a:t>黄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26920" y="3579840"/>
            <a:ext cx="4737600" cy="2289960"/>
            <a:chOff x="1726920" y="3579840"/>
            <a:chExt cx="4737600" cy="2289960"/>
          </a:xfrm>
        </p:grpSpPr>
        <p:sp>
          <p:nvSpPr>
            <p:cNvPr id="147" name=""/>
            <p:cNvSpPr/>
            <p:nvPr/>
          </p:nvSpPr>
          <p:spPr>
            <a:xfrm>
              <a:off x="5460840" y="357984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c1604"/>
                  </a:solidFill>
                  <a:latin typeface="Times New Roman"/>
                  <a:ea typeface="黑体"/>
                </a:rPr>
                <a:t>黑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26920" y="49528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c1604"/>
                  </a:solidFill>
                  <a:latin typeface="Times New Roman"/>
                  <a:ea typeface="黑体"/>
                </a:rPr>
                <a:t>绿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49528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c1604"/>
                  </a:solidFill>
                  <a:latin typeface="Times New Roman"/>
                  <a:ea typeface="黑体"/>
                </a:rPr>
                <a:t>红色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0666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4.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谁创造中国历史上奥运会金牌零的突破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16800" y="32767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1604"/>
                </a:solidFill>
                <a:latin typeface="Times New Roman"/>
                <a:ea typeface="黑体"/>
              </a:rPr>
              <a:t>射击运动员许海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990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198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年到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200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年担任国际奥  委会主席是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1800" y="3500280"/>
            <a:ext cx="216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1604"/>
                </a:solidFill>
                <a:latin typeface="黑体"/>
                <a:ea typeface="黑体"/>
              </a:rPr>
              <a:t>萨马兰奇</a:t>
            </a:r>
            <a:r>
              <a:rPr b="1" lang="zh-CN" sz="4800" spc="-1" strike="noStrike">
                <a:solidFill>
                  <a:srgbClr val="fc1604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0666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6.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奥林匹克发祥地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67080" y="31845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1604"/>
                </a:solidFill>
                <a:latin typeface="Times New Roman"/>
                <a:ea typeface="黑体"/>
              </a:rPr>
              <a:t>希腊雅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7.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现代奥林匹克运动创史人</a:t>
            </a:r>
            <a:br>
              <a:rPr sz="5400"/>
            </a:b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  是谁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3200" y="2895480"/>
            <a:ext cx="3923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c1604"/>
                </a:solidFill>
                <a:latin typeface="黑体"/>
                <a:ea typeface="黑体"/>
              </a:rPr>
              <a:t>法国教育家顾拜旦</a:t>
            </a:r>
            <a:r>
              <a:rPr b="0" lang="zh-CN" sz="2400" spc="-1" strike="noStrike">
                <a:solidFill>
                  <a:srgbClr val="fc160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533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8.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沙滩排球是否属于奥运会的正式比赛项目之一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43720" y="32004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c1604"/>
                </a:solidFill>
                <a:latin typeface="Times New Roman"/>
                <a:ea typeface="黑体"/>
              </a:rPr>
              <a:t>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9144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9.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现有多少个项目是国际奥委会正式承认的比赛项目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21160" y="3581280"/>
            <a:ext cx="219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c1604"/>
                </a:solidFill>
                <a:latin typeface="黑体"/>
                <a:ea typeface="黑体"/>
              </a:rPr>
              <a:t>28</a:t>
            </a:r>
            <a:r>
              <a:rPr b="1" lang="zh-CN" sz="8000" spc="-1" strike="noStrike">
                <a:solidFill>
                  <a:srgbClr val="fc1604"/>
                </a:solidFill>
                <a:latin typeface="黑体"/>
                <a:ea typeface="黑体"/>
              </a:rPr>
              <a:t>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81080" y="1371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8380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920" y="380880"/>
            <a:ext cx="91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华文彩云"/>
              </a:rPr>
              <a:t>10.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华文彩云"/>
              </a:rPr>
              <a:t>奥林匹克精神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2298600"/>
            <a:ext cx="741528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  <a:ea typeface="华文行楷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  <a:ea typeface="华文行楷"/>
              </a:rPr>
              <a:t>更快、更高、更强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3789360"/>
            <a:ext cx="7417080" cy="91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重 在 参 与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932360" y="9079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1592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奥运会的历史上，奥蒂这个名字很响亮，也很无奈。响亮的背后是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3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枚世界大赛的奖牌，无奈的是这位已经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多岁的牙买加老将，奋斗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多年却</a:t>
            </a:r>
            <a:r>
              <a:rPr b="1" lang="zh-CN" sz="3200" spc="-1" strike="noStrike">
                <a:solidFill>
                  <a:srgbClr val="fc1604"/>
                </a:solidFill>
                <a:latin typeface="宋体"/>
              </a:rPr>
              <a:t>始终没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赢得一枚奥运会</a:t>
            </a:r>
            <a:r>
              <a:rPr b="1" lang="zh-CN" sz="3200" spc="-1" strike="noStrike">
                <a:solidFill>
                  <a:srgbClr val="fc1604"/>
                </a:solidFill>
                <a:latin typeface="宋体"/>
              </a:rPr>
              <a:t>金牌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。尽管遇到了各种挫折，但是，奥蒂总共参加了六届奥运会、七次世界田径锦标赛。她从未站在世界第一的位置上，却永远奋斗和不屈，唤起了</a:t>
            </a:r>
            <a:r>
              <a:rPr b="1" lang="zh-CN" sz="3200" spc="-1" strike="noStrike">
                <a:solidFill>
                  <a:srgbClr val="fc1604"/>
                </a:solidFill>
                <a:latin typeface="宋体"/>
              </a:rPr>
              <a:t>失利者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不断奋起的勇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749760" cy="55436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chimes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4920" y="12906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奥蒂的故事体现了什么奥运精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954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为什么称奥蒂为“失利者”而非失败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0" y="2017800"/>
            <a:ext cx="896472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重在参与，永不放弃、永不气馁、永不低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0" y="3882960"/>
            <a:ext cx="8989920" cy="70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奥蒂虽然屡次失败但却具备了永远奋斗和不屈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524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我们身边有无“失利者”，但非失败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0"/>
            <a:ext cx="257184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：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rcRect l="28912" t="0" r="3875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1125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昨晚忙碌了一天回去打开电视，当画面定格在张丹在被抛四周后轰然坠地后，我的心也跟着悬了起来。然而当张丹坚强的站起来，并要求继续比赛时，我的心猛地跳了一下，几乎热泪盈眶，不仅为她的坚强，也为她的职业精神所深深打动。随着《龙的传人》揍响全场，他们在冰场再次翩翩起舞，我立即肃然起敬，平生第一次去用心欣赏花样滑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4000" y="260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网络评论：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5580000" y="189000"/>
            <a:ext cx="2700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讨论：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2133720"/>
            <a:ext cx="50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奥运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·2008·</a:t>
            </a: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我们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1:38:5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43:12Z</dcterms:modified>
  <cp:revision>241</cp:revision>
  <dc:subject>主题班会课件(分28大类): http://shop62905894.taobao.com</dc:subject>
  <dc:title>主题班会课件(分28大类): http://shop62905894.taobao.com</dc:title>
</cp:coreProperties>
</file>